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774600" y="-360"/>
            <a:ext cx="2886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06080"/>
            <a:ext cx="28875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6080"/>
            <a:ext cx="2886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A3DB730-9205-4BC6-9D4D-5FFF3AF1FC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Keine Befassung mit den bi-lateralen internationalen Akte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8D8F-9907-42DB-97C4-BE4E40BB1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9390-6A72-4C9D-BB64-BC6B2C837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B8D2-F482-4E92-A68F-AE4931708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8057-C286-404F-BA1E-AE7B6AEEC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61D3-5BA9-47BD-B70A-1DF418003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7157-5860-4E35-A078-5AEB95292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B266-47E0-4EEF-8CB0-C08A26242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D4FA-E4F6-456B-B9D1-014901381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EB86-683F-4275-8648-78F9EEBE9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5FF8-A16D-4815-B6FA-B1A8F639E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BAB4-E572-484A-AA10-91021A63E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09F1-CE3F-4171-B8C6-64E0B0425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763960" y="6619680"/>
            <a:ext cx="2896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4a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6C06-888E-4C1D-97D7-F2C144292426}" type="slidenum">
              <a:rPr b="0" lang="de-DE" sz="800" spc="-1" strike="noStrike">
                <a:solidFill>
                  <a:srgbClr val="004a7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47680"/>
            <a:ext cx="9144000" cy="1008000"/>
          </a:xfrm>
          <a:prstGeom prst="rect">
            <a:avLst/>
          </a:prstGeom>
          <a:solidFill>
            <a:srgbClr val="7c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3" descr=""/>
          <p:cNvPicPr/>
          <p:nvPr/>
        </p:nvPicPr>
        <p:blipFill>
          <a:blip r:embed="rId2"/>
          <a:stretch/>
        </p:blipFill>
        <p:spPr>
          <a:xfrm>
            <a:off x="7591320" y="549360"/>
            <a:ext cx="1228680" cy="4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b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8"/>
          <p:cNvSpPr/>
          <p:nvPr/>
        </p:nvSpPr>
        <p:spPr>
          <a:xfrm>
            <a:off x="0" y="2205000"/>
            <a:ext cx="8663040" cy="42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1151" descr=""/>
          <p:cNvPicPr/>
          <p:nvPr/>
        </p:nvPicPr>
        <p:blipFill>
          <a:blip r:embed="rId2"/>
          <a:stretch/>
        </p:blipFill>
        <p:spPr>
          <a:xfrm>
            <a:off x="3851280" y="5532480"/>
            <a:ext cx="4680000" cy="758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Kreditni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program za otklanjanje 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posljedica  poplava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(FRCP)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Kratki pregled                               </a:t>
            </a:r>
            <a:r>
              <a:rPr b="1" lang="bs-BA" sz="1600" spc="-1" strike="noStrike">
                <a:solidFill>
                  <a:srgbClr val="ffffff"/>
                </a:solidFill>
                <a:latin typeface="Arial"/>
              </a:rPr>
              <a:t>Oktobar 2014. god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Oktobar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ctober 20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6200" y="2205000"/>
            <a:ext cx="82076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418B-5524-4D91-B544-505FC49E2B3A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CP- </a:t>
            </a: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faza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prinos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.5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lio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EU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 okviru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vropskog fonda z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B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osnu 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Her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cegovinu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(EFBH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smjereno na krajnje korisnike pogođene poplavama pute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ikrofinansijske instituci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Partne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Tuzl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 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Mikrofin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Banja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lu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);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svaka institucija primila 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1.25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liona EUR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fektivn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od kraja ju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a u potpunosti isplaćeno krajnjim korisnicima do kraja oktobr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riteriji podobnosti za krajnje korisnike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ri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kr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ala i srednja preduzeća, preduzetnici i privatna kućanstva, pogođeni poplavam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amijenjeni isključivo za obnavljanje i sanaciju šteta za poslovne subjekte i kućanstva, koji su djelomično i/ili u potpunosti uništeni od popla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eće prelaziti iznos od  3.000,-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spijeće zajma je z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3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godine sa grejs periodom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6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jeseci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amat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bez naknade za obradu kredita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91B3-7949-42FA-B5C8-3FFECA495304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CP- Phase 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prinos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F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deralnog ministarstva za ekonomsku saradnju u razvoj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BMZ)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 iznosu od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  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5 milion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smjereno na krajnje korisnike pogođene poplavama pute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ikrofinansijske instituci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Partne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Tuzl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Mikrofin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Banja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lu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Svaka institucija će primiti 2.5 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Pokrivenost rizika do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50%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 svaki pod-zajam i do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15%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kupnog iznosa zajm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fektivn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: 2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polovica oktobr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riteriji podobnosti za krajnje korisni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ri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kr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ala i srednja preduzeća, preduzetnici i privatna kućanstva, pogođeni poplavam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amijenjeni isključivo za obnavljanje i sanaciju šteta za poslovne subjekte i kućanstva, koji su djelomično i/ili u potpunosti uništeni od popla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eće prelaziti iznos od  3.000,-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spijeće zajma je z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3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godine sa grejs periodom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6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jeseci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amat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bez naknade za obradu kredita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06:58Z</dcterms:created>
  <dc:creator>Heike Hartung</dc:creator>
  <dc:description/>
  <dc:language>en-US</dc:language>
  <cp:lastModifiedBy>operater</cp:lastModifiedBy>
  <dcterms:modified xsi:type="dcterms:W3CDTF">2014-10-21T09:21:20Z</dcterms:modified>
  <cp:revision>133</cp:revision>
  <dc:subject/>
  <dc:title>Präsentation</dc:title>
</cp:coreProperties>
</file>